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BBA04-8442-4EDA-9CAA-95C572A43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C0424-743A-487F-9FD0-575E8E689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10976-2C85-4C93-BFFA-031A82183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6874E-4745-4DDB-A012-144A45336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79A1D-FDF9-4310-ADA9-8168FB3D9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A174C-244D-4A42-9CAB-064875FDD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B79F9-CB38-4B9C-89B4-3DA103042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3CF03-7588-42EC-B119-FE3947BBF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49D55-CC03-44E0-B135-951034753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4BFEE-DD95-4047-A81E-045BF4BD1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76200-30F9-48E6-A309-FB0F24665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0A077-6EDF-4F78-A8AF-FFD2A4EA7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A1ACF-9CC9-4BCB-AD39-6298B29F2B80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70c0"/>
                </a:solidFill>
                <a:latin typeface="Calibri"/>
              </a:rPr>
              <a:t>РАЗРЯДЫ МЕСТОИМЕНИЙ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898989"/>
                </a:solidFill>
                <a:latin typeface="Calibri"/>
              </a:rPr>
              <a:t>Автор: Кукушкина Е.А., студентка 4 курса филологического факультета КГП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898989"/>
                </a:solidFill>
                <a:latin typeface="Calibri"/>
              </a:rPr>
              <a:t>2010 год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7030a0"/>
                </a:solidFill>
                <a:latin typeface="Calibri"/>
              </a:rPr>
              <a:t>Основной вопрос нашего проекта: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8288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Зачем изучается Морфология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Рисунок 3" descr="2.jpg"/>
          <p:cNvPicPr/>
          <p:nvPr/>
        </p:nvPicPr>
        <p:blipFill>
          <a:blip r:embed="rId1"/>
          <a:stretch/>
        </p:blipFill>
        <p:spPr>
          <a:xfrm>
            <a:off x="1752480" y="3276720"/>
            <a:ext cx="5639040" cy="3200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70c0"/>
                </a:solidFill>
                <a:latin typeface="Calibri"/>
              </a:rPr>
              <a:t>Вопросы, ответы на которые мы будем искать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чему местоимения делятся на разряды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кие бывают разряды местоимений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к определить разряды местоимений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ожет ли одно местоимение выступать в разных разрядах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10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10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10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10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10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10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70c0"/>
                </a:solidFill>
                <a:latin typeface="Calibri"/>
              </a:rPr>
              <a:t>Представление результатов        исследования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тенгазе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еб – сай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уклет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езентация доклад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Распределение по группам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457200" y="1600200"/>
          <a:ext cx="8229600" cy="3108240"/>
        </p:xfrm>
        <a:graphic>
          <a:graphicData uri="http://schemas.openxmlformats.org/drawingml/2006/table">
            <a:tbl>
              <a:tblPr/>
              <a:tblGrid>
                <a:gridCol w="762120"/>
                <a:gridCol w="4038480"/>
                <a:gridCol w="3429000"/>
              </a:tblGrid>
              <a:tr h="58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ема изучен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частник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9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стоимение как часть реч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ичные, притяжательные, возвратные местоим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тносительные, вопросительные, определительные местоим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казательные, отрицательные, неопределенные местоим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70c0"/>
                </a:solidFill>
                <a:latin typeface="Calibri"/>
              </a:rPr>
              <a:t>Продолжительность проекта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04920" y="14479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                    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2 недел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4 урока по 45 мину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Рисунок 3" descr="aac9ec9b5997.jpg"/>
          <p:cNvPicPr/>
          <p:nvPr/>
        </p:nvPicPr>
        <p:blipFill>
          <a:blip r:embed="rId1"/>
          <a:stretch/>
        </p:blipFill>
        <p:spPr>
          <a:xfrm>
            <a:off x="1371600" y="3352680"/>
            <a:ext cx="6477120" cy="3276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70c0"/>
                </a:solidFill>
                <a:latin typeface="Calibri"/>
              </a:rPr>
              <a:t>Этапы проведения проекта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1.Выбор и формулировка тем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2.Поиск информаци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3.Самостоятельная  работа учащихс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4.Защита проектов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800" spc="-1" strike="noStrike">
                <a:solidFill>
                  <a:srgbClr val="0070c0"/>
                </a:solidFill>
                <a:latin typeface="Calibri"/>
              </a:rPr>
              <a:t>Информационные ресурсы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правочник школьника. Русский язык. Под ред. В. Славкина – М., 1999 г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усский язык: Учебник для 6 класса общеобразовательных учреждений/ Т.А. Ладыженская, М.Т.Баранов и др. 33 изд-е  - М., 2005 г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761760" y="1447560"/>
            <a:ext cx="74674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c00000"/>
                </a:solidFill>
                <a:latin typeface="Calibri"/>
              </a:rPr>
              <a:t>       </a:t>
            </a:r>
            <a:r>
              <a:rPr b="0" lang="ru-RU" sz="8000" spc="-1" strike="noStrike">
                <a:solidFill>
                  <a:srgbClr val="c00000"/>
                </a:solidFill>
                <a:latin typeface="Calibri"/>
              </a:rPr>
              <a:t>Удачи 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c00000"/>
                </a:solidFill>
                <a:latin typeface="Calibri"/>
              </a:rPr>
              <a:t>   </a:t>
            </a:r>
            <a:r>
              <a:rPr b="0" lang="ru-RU" sz="8000" spc="-1" strike="noStrike">
                <a:solidFill>
                  <a:srgbClr val="c00000"/>
                </a:solidFill>
                <a:latin typeface="Calibri"/>
              </a:rPr>
              <a:t>и   творческих             успехов!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Васько</cp:lastModifiedBy>
  <dcterms:modified xsi:type="dcterms:W3CDTF">2010-05-17T14:34:29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